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4699-904F-4CAC-80D2-826DB1213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a 1ra lí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4FD-C33E-4CC5-B2F3-833D6DA5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77724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3878280"/>
            <a:ext cx="77724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C42A-936A-4B74-B847-647F6F79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387828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387828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19DA-9430-4068-8005-EFAC68B4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141300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141300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387828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387828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387828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E8A-7285-4846-85D8-62472B94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21FB-AEBA-427D-9188-5880EE35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ECF7-52DF-4125-8ABA-026E55D0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D587-C6B5-4B70-9E60-3CFB07A0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3792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1413000"/>
            <a:ext cx="3792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9473-51A6-42B4-837B-ED8D411A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A1C5-3369-43AE-908E-C3880FDC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9284-011E-46D8-9FBC-DC95BA21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1413000"/>
            <a:ext cx="3792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387828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C424-555C-4AC6-896B-EA5E278A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9D57-3677-48BF-B803-806E52DA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3792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387828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ECC9-D0A1-4BCD-876C-C1DCA665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3878280"/>
            <a:ext cx="77724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3594-C660-4F9B-931F-1E83ED39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77724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3878280"/>
            <a:ext cx="77724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64F9-2D11-4DA0-817A-AE598C12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387828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387828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D3E4-70CC-40A7-91A7-6DCF57DB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141300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141300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387828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387828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3878280"/>
            <a:ext cx="2502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AEE2-7E07-4598-9103-BC6B25BA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0E0-AA95-45ED-9708-D3A44C67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3792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1413000"/>
            <a:ext cx="3792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B819-A74E-436E-A68F-9F5A0171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8C6-6B0F-43EB-B788-403B0370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6EDD-B787-4F80-AFF2-C4C7E480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1413000"/>
            <a:ext cx="3792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387828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FE28-AF0E-4B81-AD50-3E87F50B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3792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387828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03D-F420-4FBE-AF15-48D9B375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413000"/>
            <a:ext cx="3792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3878280"/>
            <a:ext cx="77724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0741-5A04-4A44-98FF-ABFD771D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4144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4144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6372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6372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906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334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224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6B9D-A1D7-4B3D-9112-1125AA1FA4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F3DE-D968-4FAA-A39B-53B2AFAC00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ocalhost/../testX.php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localhost/../testX.php?campo1=valor1&amp;campo2=valor2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rso 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87280" y="4581360"/>
            <a:ext cx="7561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g. Ricardo Villamarín Salom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Ejemplo de procesado G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8664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testform1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Courier New"/>
              </a:rPr>
              <a:t>&lt;?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3333cc"/>
                </a:solidFill>
                <a:latin typeface="Courier New"/>
              </a:rPr>
              <a:t>echo</a:t>
            </a:r>
            <a:r>
              <a:rPr b="0" lang="es-PE" sz="3200" spc="-1" strike="noStrike">
                <a:solidFill>
                  <a:srgbClr val="000000"/>
                </a:solidFill>
                <a:latin typeface="Courier New"/>
              </a:rPr>
              <a:t> $HTTP_GET_VARS["nombre"]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3333cc"/>
                </a:solidFill>
                <a:latin typeface="Courier New"/>
              </a:rPr>
              <a:t>echo</a:t>
            </a:r>
            <a:r>
              <a:rPr b="0" lang="es-PE" sz="3200" spc="-1" strike="noStrike">
                <a:solidFill>
                  <a:srgbClr val="000000"/>
                </a:solidFill>
                <a:latin typeface="Courier New"/>
              </a:rPr>
              <a:t> "&lt;br&gt;"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3333cc"/>
                </a:solidFill>
                <a:latin typeface="Courier New"/>
              </a:rPr>
              <a:t>echo</a:t>
            </a:r>
            <a:r>
              <a:rPr b="0" lang="es-PE" sz="3200" spc="-1" strike="noStrike">
                <a:solidFill>
                  <a:srgbClr val="000000"/>
                </a:solidFill>
                <a:latin typeface="Courier New"/>
              </a:rPr>
              <a:t> $HTTP_GET_VARS["apellido"]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ando P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15640" y="1413000"/>
            <a:ext cx="8739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.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localhost/../testX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$HTTP_POST_VARS[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$_POST[] // PHP 4.1 en adela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Ejemplo de procesado P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8664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testform1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&lt;?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echo $HTTP_POST_VARS["nombre"]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echo "&lt;br&gt;"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echo $HTTP_POST_VARS["apellido"]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?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Tahoma"/>
              </a:rPr>
              <a:t>&lt;/body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Info. de petición y del servid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31640" y="1413000"/>
            <a:ext cx="852336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$HTTP_COOKIE_VA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$HTTP_GET_V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$HTTP_POST_VA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$HTTP_POST_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$HTTP_SERVER_V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$HTTP_ENV_VA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$PHP_SEL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Servid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631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SERVER_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REQUEST_METHO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PATH_INFO (ej. "/lista/usuarios"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PATH_TRANSLATED  (c:/inetpub/wwwroot/…/testform1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HTTP_USER_AG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QUERY_STRING </a:t>
            </a:r>
            <a:br>
              <a:rPr sz="3200"/>
            </a:b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nombre=Juan&amp;apellido=Pere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$HTTP_SERVER_VARS["QUERY_STRING"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Procesamiento de Formular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9233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Tahoma"/>
              </a:rPr>
              <a:t>fahr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&lt;form name="form1" method="</a:t>
            </a:r>
            <a:r>
              <a:rPr b="1" lang="es-PE" sz="3200" spc="-1" strike="noStrike">
                <a:solidFill>
                  <a:srgbClr val="000000"/>
                </a:solidFill>
                <a:latin typeface="Tahoma"/>
              </a:rPr>
              <a:t>POST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" action="</a:t>
            </a:r>
            <a:r>
              <a:rPr b="1" lang="es-PE" sz="3200" spc="-1" strike="noStrike">
                <a:solidFill>
                  <a:srgbClr val="000000"/>
                </a:solidFill>
                <a:latin typeface="Tahoma"/>
              </a:rPr>
              <a:t>fahr2.php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"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&lt;p&gt;Temperatura Fahrenheit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&lt;input name="</a:t>
            </a:r>
            <a:r>
              <a:rPr b="1" lang="es-PE" sz="3200" spc="-1" strike="noStrike">
                <a:solidFill>
                  <a:srgbClr val="000000"/>
                </a:solidFill>
                <a:latin typeface="Tahoma"/>
              </a:rPr>
              <a:t>fahrenheit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" type="text" id="fahrenheit"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&lt;/p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&lt;p&gt;&lt;input type="submit" value="Convertir a Celsius"&gt;&lt;/p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&lt;/form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Procesamiento de Formular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955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fahr2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&lt;?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$fahr = </a:t>
            </a:r>
            <a:r>
              <a:rPr b="1" lang="es-PE" sz="3200" spc="-1" strike="noStrike">
                <a:solidFill>
                  <a:srgbClr val="000000"/>
                </a:solidFill>
                <a:latin typeface="Tahoma"/>
              </a:rPr>
              <a:t>$HTTP_POST_VARS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['fahrenheit']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$celsius = ($fahr - 32) * 5/9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printf("%.2fF es %.2fC", $fahr, $celsius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?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Paginas autoprocesa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8920" y="1412640"/>
            <a:ext cx="85960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fahr3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if ($HTTP_SERVER_VARS['REQUEST_METHOD'] == 'GET'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&lt;form name="form1" method="POST" action="</a:t>
            </a:r>
            <a:r>
              <a:rPr b="1" lang="es-PE" sz="2400" spc="-1" strike="noStrike">
                <a:solidFill>
                  <a:srgbClr val="000000"/>
                </a:solidFill>
                <a:latin typeface="Tahoma"/>
              </a:rPr>
              <a:t>&lt;?=$HTTP_SERVER_VARS['PHP_SELF']?&gt;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&lt;p&gt;Temperatura Fahrenhei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&lt;input name="fahrenheit" type="text" id="fahrenheit"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&lt;/p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&lt;p&gt;&lt;input type="submit" value="Convertir a Celsius"&gt;&lt;/p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&lt;/form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Paginas autoprocesa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955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fahr3.php (continuació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} elseif ($HTTP_SERVER_VARS['REQUEST_METHOD'] == 'POST'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$fahr = $HTTP_POST_VARS['fahrenheit'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$celsius = ($fahr - 32) * 5/9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printf("%.2fF es %.2fC", $fahr, $celsiu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die("Este script funciona solo con peticiones GET y POST.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Autoprocesado (fahr4.php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75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0000"/>
                </a:solidFill>
                <a:latin typeface="Tahom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PE" sz="2400" spc="-1" strike="noStrike">
                <a:solidFill>
                  <a:srgbClr val="ff0000"/>
                </a:solidFill>
                <a:latin typeface="Tahoma"/>
              </a:rPr>
              <a:t>$formEnviado = @$HTTP_POST_VARS["enviado"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PE" sz="2400" spc="-1" strike="noStrike">
                <a:solidFill>
                  <a:srgbClr val="ff0000"/>
                </a:solidFill>
                <a:latin typeface="Tahoma"/>
              </a:rPr>
              <a:t>if (is_null($formEnviado)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0000"/>
                </a:solidFill>
                <a:latin typeface="Tahom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&lt;form name="form1" method="POST" action="&lt;?=$HTTP_SERVER_VARS['PHP_SELF']?&gt;"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&lt;p&gt;Temperatura Fahrenhei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&lt;input name="fahrenheit" type="text" id="fahrenheit"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PE" sz="2400" spc="-1" strike="noStrike">
                <a:solidFill>
                  <a:srgbClr val="ff0000"/>
                </a:solidFill>
                <a:latin typeface="Tahoma"/>
              </a:rPr>
              <a:t>&lt;input name="enviado" type="hidden"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&lt;/p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&lt;p&gt;&lt;input type="submit" value="Convertir a Celsius"&gt;&lt;/p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&lt;/form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amiento de formular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411280" y="450864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e 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Autoprocesado (fahr4.php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75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&lt;?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s-PE" sz="3200" spc="-1" strike="noStrike">
                <a:solidFill>
                  <a:srgbClr val="ff0000"/>
                </a:solidFill>
                <a:latin typeface="Tahoma"/>
              </a:rPr>
              <a:t>else {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$fahr = $HTTP_POST_VARS['fahrenheit']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$celsius = ($fahr - 32) * 5/9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printf("%.2fF es %.2fC", $fahr, $celsius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?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75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Cree un formulario donde se le pida al usuario su nombre y su e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Compruebe que la dirección de email contiene el símbolo "@", en caso de que no lo tuviera, imprima un mensaje al usua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Formularios "pegajosos"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233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500" spc="-1" strike="noStrike">
                <a:solidFill>
                  <a:srgbClr val="000000"/>
                </a:solidFill>
                <a:latin typeface="Tahoma"/>
              </a:rPr>
              <a:t>&lt;?php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PE" sz="2500" spc="-1" strike="noStrike">
                <a:solidFill>
                  <a:srgbClr val="000000"/>
                </a:solidFill>
                <a:latin typeface="Tahoma"/>
              </a:rPr>
              <a:t>$fahr = </a:t>
            </a:r>
            <a:r>
              <a:rPr b="1" lang="es-PE" sz="2500" spc="-1" strike="noStrike">
                <a:solidFill>
                  <a:srgbClr val="000000"/>
                </a:solidFill>
                <a:latin typeface="Tahoma"/>
              </a:rPr>
              <a:t>@</a:t>
            </a:r>
            <a:r>
              <a:rPr b="0" lang="es-PE" sz="2500" spc="-1" strike="noStrike">
                <a:solidFill>
                  <a:srgbClr val="000000"/>
                </a:solidFill>
                <a:latin typeface="Tahoma"/>
              </a:rPr>
              <a:t>$HTTP_GET_VARS['fahrenheit']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500" spc="-1" strike="noStrike">
                <a:solidFill>
                  <a:srgbClr val="000000"/>
                </a:solidFill>
                <a:latin typeface="Tahoma"/>
              </a:rPr>
              <a:t>?&gt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500" spc="-1" strike="noStrike">
                <a:solidFill>
                  <a:srgbClr val="000000"/>
                </a:solidFill>
                <a:latin typeface="Tahoma"/>
              </a:rPr>
              <a:t>&lt;form action="&lt;?php echo $HTTP_SERVER_VARS['PHP_SELF'] ?&gt;" method="</a:t>
            </a:r>
            <a:r>
              <a:rPr b="1" lang="es-PE" sz="25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es-PE" sz="2500" spc="-1" strike="noStrike">
                <a:solidFill>
                  <a:srgbClr val="000000"/>
                </a:solidFill>
                <a:latin typeface="Tahoma"/>
              </a:rPr>
              <a:t>"&gt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500" spc="-1" strike="noStrike">
                <a:solidFill>
                  <a:srgbClr val="000000"/>
                </a:solidFill>
                <a:latin typeface="Tahoma"/>
              </a:rPr>
              <a:t>Temperatura en Fahrenheit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500" spc="-1" strike="noStrike">
                <a:solidFill>
                  <a:srgbClr val="000000"/>
                </a:solidFill>
                <a:latin typeface="Tahoma"/>
              </a:rPr>
              <a:t>&lt;input type="text" name="fahrenheit" value="&lt;?php echo $fahr ?&gt;" /&gt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500" spc="-1" strike="noStrike">
                <a:solidFill>
                  <a:srgbClr val="000000"/>
                </a:solidFill>
                <a:latin typeface="Tahoma"/>
              </a:rPr>
              <a:t>&lt;br&gt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500" spc="-1" strike="noStrike">
                <a:solidFill>
                  <a:srgbClr val="000000"/>
                </a:solidFill>
                <a:latin typeface="Tahoma"/>
              </a:rPr>
              <a:t>&lt;input type="submit" value="Convertir a Celsius"&gt;&lt;/form&gt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500" spc="-1" strike="noStrike">
                <a:solidFill>
                  <a:srgbClr val="000000"/>
                </a:solidFill>
                <a:latin typeface="Tahoma"/>
              </a:rPr>
              <a:t>&lt;?php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PE" sz="2500" spc="-1" strike="noStrike">
                <a:solidFill>
                  <a:srgbClr val="000000"/>
                </a:solidFill>
                <a:latin typeface="Tahoma"/>
              </a:rPr>
              <a:t>if (! is_null($fahr)) {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5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PE" sz="2500" spc="-1" strike="noStrike">
                <a:solidFill>
                  <a:srgbClr val="000000"/>
                </a:solidFill>
                <a:latin typeface="Tahoma"/>
              </a:rPr>
              <a:t>$celsius = ($fahr - 32) * 5/9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5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PE" sz="2500" spc="-1" strike="noStrike">
                <a:solidFill>
                  <a:srgbClr val="000000"/>
                </a:solidFill>
                <a:latin typeface="Tahoma"/>
              </a:rPr>
              <a:t>printf("%.2fF es %.2fC", $fahr, $celsius)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PE" sz="2500" spc="-1" strike="noStrike">
                <a:solidFill>
                  <a:srgbClr val="000000"/>
                </a:solidFill>
                <a:latin typeface="Tahoma"/>
              </a:rPr>
              <a:t>}?&gt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Selección Múlti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Tahoma"/>
              </a:rPr>
              <a:t>&lt;form name="form1" method="</a:t>
            </a:r>
            <a:r>
              <a:rPr b="1" sz="21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sz="2100" spc="-1" strike="noStrike">
                <a:solidFill>
                  <a:srgbClr val="000000"/>
                </a:solidFill>
                <a:latin typeface="Tahoma"/>
              </a:rPr>
              <a:t>" action="&lt;?php echo $HTTP_SERVER_VARS['PHP_SELF'] ?&gt;"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sz="2100" spc="-1" strike="noStrike">
                <a:solidFill>
                  <a:srgbClr val="000000"/>
                </a:solidFill>
                <a:latin typeface="Tahoma"/>
              </a:rPr>
              <a:t>&lt;select </a:t>
            </a:r>
            <a:r>
              <a:rPr b="1" sz="2100" spc="-1" strike="noStrike">
                <a:solidFill>
                  <a:srgbClr val="3333cc"/>
                </a:solidFill>
                <a:latin typeface="Tahoma"/>
              </a:rPr>
              <a:t>name="atributos[]" size="6" multiple</a:t>
            </a:r>
            <a:r>
              <a:rPr b="0" sz="21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100" spc="-1" strike="noStrike">
                <a:solidFill>
                  <a:srgbClr val="000000"/>
                </a:solidFill>
                <a:latin typeface="Tahoma"/>
              </a:rPr>
              <a:t>&lt;option value="alegre"&gt;Alegre&lt;/option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sz="2100" spc="-1" strike="noStrike">
                <a:solidFill>
                  <a:srgbClr val="000000"/>
                </a:solidFill>
                <a:latin typeface="Tahoma"/>
              </a:rPr>
              <a:t>&lt;option value="enojona"&gt;Enojona&lt;/option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sz="2100" spc="-1" strike="noStrike">
                <a:solidFill>
                  <a:srgbClr val="000000"/>
                </a:solidFill>
                <a:latin typeface="Tahoma"/>
              </a:rPr>
              <a:t>&lt;option value="pensativa"&gt;Pensativa&lt;/option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sz="2100" spc="-1" strike="noStrike">
                <a:solidFill>
                  <a:srgbClr val="000000"/>
                </a:solidFill>
                <a:latin typeface="Tahoma"/>
              </a:rPr>
              <a:t>&lt;option value="sensitiva"&gt;Sensitiva&lt;/option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sz="2100" spc="-1" strike="noStrike">
                <a:solidFill>
                  <a:srgbClr val="000000"/>
                </a:solidFill>
                <a:latin typeface="Tahoma"/>
              </a:rPr>
              <a:t>&lt;option value="ahorradora"&gt;Ahorradora&lt;/option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sz="2100" spc="-1" strike="noStrike">
                <a:solidFill>
                  <a:srgbClr val="000000"/>
                </a:solidFill>
                <a:latin typeface="Tahoma"/>
              </a:rPr>
              <a:t>&lt;option value="prodiga"&gt;Gastadora&lt;/option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sz="2100" spc="-1" strike="noStrike">
                <a:solidFill>
                  <a:srgbClr val="000000"/>
                </a:solidFill>
                <a:latin typeface="Tahoma"/>
              </a:rPr>
              <a:t>&lt;/select&gt;&lt;br&gt;&lt;BR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Tahoma"/>
              </a:rPr>
              <a:t>&lt;input name="smtpers" type="submit" </a:t>
            </a:r>
            <a:r>
              <a:rPr b="0" sz="2100" spc="-1" strike="noStrike">
                <a:solidFill>
                  <a:srgbClr val="3333cc"/>
                </a:solidFill>
                <a:latin typeface="Tahoma"/>
              </a:rPr>
              <a:t>value</a:t>
            </a:r>
            <a:r>
              <a:rPr b="0" sz="2100" spc="-1" strike="noStrike">
                <a:solidFill>
                  <a:srgbClr val="000000"/>
                </a:solidFill>
                <a:latin typeface="Tahoma"/>
              </a:rPr>
              <a:t>="Describa mi personalidad"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Tahoma"/>
              </a:rPr>
              <a:t>&lt;/form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Tahoma"/>
              </a:rPr>
              <a:t>&lt;?php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1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sz="2100" spc="-1" strike="noStrike">
                <a:solidFill>
                  <a:srgbClr val="3333cc"/>
                </a:solidFill>
                <a:latin typeface="Tahoma"/>
              </a:rPr>
              <a:t>if ( in_array('smtpers', array_keys($HTTP_GET_VARS)) 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1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sz="2100" spc="-1" strike="noStrike">
                <a:solidFill>
                  <a:srgbClr val="3333cc"/>
                </a:solidFill>
                <a:latin typeface="Tahoma"/>
              </a:rPr>
              <a:t>$descripcion = implode(" ", $HTTP_GET_VARS['atributos']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1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sz="2100" spc="-1" strike="noStrike">
                <a:solidFill>
                  <a:srgbClr val="3333cc"/>
                </a:solidFill>
                <a:latin typeface="Tahoma"/>
              </a:rPr>
              <a:t>echo "Ud. tiene una personalidad $descripcion."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1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sz="2100" spc="-1" strike="noStrike">
                <a:solidFill>
                  <a:srgbClr val="3333cc"/>
                </a:solidFill>
                <a:latin typeface="Tahoma"/>
              </a:rPr>
              <a:t>} </a:t>
            </a:r>
            <a:r>
              <a:rPr b="0" sz="2100" spc="-1" strike="noStrike">
                <a:solidFill>
                  <a:srgbClr val="000000"/>
                </a:solidFill>
                <a:latin typeface="Tahoma"/>
              </a:rPr>
              <a:t>?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Sel. múltiple con checkbox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Tahoma"/>
              </a:rPr>
              <a:t>&lt;form name="form1" method="GET" action="</a:t>
            </a:r>
            <a:r>
              <a:rPr b="1" sz="2100" spc="-1" strike="noStrike">
                <a:solidFill>
                  <a:srgbClr val="000000"/>
                </a:solidFill>
                <a:latin typeface="Tahoma"/>
              </a:rPr>
              <a:t>&lt;?=$HTTP_SERVER_VARS['PHP_SELF'] ?&gt;</a:t>
            </a:r>
            <a:r>
              <a:rPr b="0" sz="2100" spc="-1" strike="noStrike">
                <a:solidFill>
                  <a:srgbClr val="000000"/>
                </a:solidFill>
                <a:latin typeface="Tahoma"/>
              </a:rPr>
              <a:t>"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Tahoma"/>
              </a:rPr>
              <a:t>&lt;input type="checkbox" name="atributos[]" value="alegre"&gt;Alegre&lt;br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Tahoma"/>
              </a:rPr>
              <a:t>&lt;input type="checkbox" name="atributos[]" value="enojona"&gt;Enojona&lt;br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Tahoma"/>
              </a:rPr>
              <a:t>&lt;input type="checkbox" name="atributos[]" value="pensativa"&gt;Pensativa&lt;br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Tahoma"/>
              </a:rPr>
              <a:t>&lt;input type="checkbox" name="atributos[]" value="sensitiva"&gt;Sensitiva&lt;br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Tahoma"/>
              </a:rPr>
              <a:t>&lt;input type="checkbox" name="atributos[]" value="ahorradora"&gt;Ahorradora&lt;br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Tahoma"/>
              </a:rPr>
              <a:t>&lt;input type="checkbox" name="atributos[]" value="prodiga"&gt;Gastadora&lt;BR&gt;&lt;BR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sz="2100" spc="-1" strike="noStrike">
                <a:solidFill>
                  <a:srgbClr val="000000"/>
                </a:solidFill>
                <a:latin typeface="Tahoma"/>
              </a:rPr>
              <a:t>&lt;input name="smtpers" type="submit" value="Describa mi personalidad"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Tahoma"/>
              </a:rPr>
              <a:t>&lt;/form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Tahoma"/>
              </a:rPr>
              <a:t>&lt;?php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503b"/>
                </a:solidFill>
                <a:latin typeface="Tahoma"/>
              </a:rPr>
              <a:t> </a:t>
            </a:r>
            <a:r>
              <a:rPr b="0" sz="2100" spc="-1" strike="noStrike">
                <a:solidFill>
                  <a:srgbClr val="00503b"/>
                </a:solidFill>
                <a:latin typeface="Tahoma"/>
              </a:rPr>
              <a:t>if ( in_array('smtpers', array_keys($HTTP_GET_VARS)) ) { …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Sel. múltiple "pegajosa"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ahoma"/>
              </a:rPr>
              <a:t>&lt;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input type="checkbox" name="atributos[]" value="alegre" </a:t>
            </a:r>
            <a:r>
              <a:rPr b="0" lang="es-PE" sz="3200" spc="-1" strike="noStrike">
                <a:solidFill>
                  <a:srgbClr val="ff0000"/>
                </a:solidFill>
                <a:latin typeface="Tahoma"/>
              </a:rPr>
              <a:t>&lt;?php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if (is_array($HTTP_GET_VARS['attributes']) </a:t>
            </a:r>
            <a:br>
              <a:rPr sz="3200"/>
            </a:b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&amp;&amp; in_array('alegre', $HTTP_GET_VARS['attributes'])) </a:t>
            </a:r>
            <a:br>
              <a:rPr sz="3200"/>
            </a:b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{ echo "checked"; } </a:t>
            </a:r>
            <a:r>
              <a:rPr b="0" lang="es-PE" sz="3200" spc="-1" strike="noStrike">
                <a:solidFill>
                  <a:srgbClr val="ff0000"/>
                </a:solidFill>
                <a:latin typeface="Tahoma"/>
              </a:rPr>
              <a:t>?&gt;</a:t>
            </a:r>
            <a:r>
              <a:rPr b="1" lang="es-PE" sz="3200" spc="-1" strike="noStrike">
                <a:solidFill>
                  <a:srgbClr val="3333cc"/>
                </a:solidFill>
                <a:latin typeface="Tahoma"/>
              </a:rPr>
              <a:t>&gt;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Alegre&lt;br&gt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Validación de Formular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2160" y="1412640"/>
            <a:ext cx="89596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Determinar si el formulario fue enviado o si recién lo ha accedido el usua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Si recién lo ha accedido el usuario, inicializar las variables a vací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En caso contra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Capturar los datos del formulario en variables tempo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Validar cada campo (obligator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Si hay errores reportarlos al usua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Asignar los valores a los cam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Validación de Formular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04920" y="1881360"/>
            <a:ext cx="6732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HTT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75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HyperText Transfer Protocol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Cuando un navegador pide una página, lo hace enviando una petición HTTP al servid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Esta petición incluye una información de "cabecera" y puede contener un cuerp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El servidor responde con un mensaje de respuesta (también contiene una cabecera y a veces un cuerp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HTT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6920" y="1412640"/>
            <a:ext cx="86677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Courier New"/>
              </a:rPr>
              <a:t>GET /index.html HTTP/1.1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La línea especifica un comando HTTP, llamado método, seguido de la dirección de un documento y la versión del protocolo HTTP que está siendo us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Luego opcionalmente puede haber info. de cabeceras  que le dan al servidor información adicional sobre la peti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HTT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500" spc="-1" strike="noStrike">
                <a:solidFill>
                  <a:srgbClr val="000000"/>
                </a:solidFill>
                <a:latin typeface="Courier New"/>
              </a:rPr>
              <a:t>User-Agent: Mozilla/5.0 (Windows 2000; U) Opera 6.0 [en]</a:t>
            </a:r>
            <a:br>
              <a:rPr sz="2500"/>
            </a:br>
            <a:r>
              <a:rPr b="0" lang="es-PE" sz="2500" spc="-1" strike="noStrike">
                <a:solidFill>
                  <a:srgbClr val="000000"/>
                </a:solidFill>
                <a:latin typeface="Courier New"/>
              </a:rPr>
              <a:t>Accept: image/gif, image/jpeg, text/*, */*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La cabecera "User-Agent" contiene info. sobre el navegad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La cabecera "Accept" especifica los tipos que el navegador acep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Luego hay una línea en blanco para finalizar la cabec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A menos que haya datos adicionales, la petición termina con una línea en blan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HTTP (respuest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955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ourier New"/>
              </a:rPr>
              <a:t>HTTP/1.1 200 O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ourier New"/>
              </a:rPr>
              <a:t>Date: Sat, 26 Jan 2002 20:25:12 GM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ourier New"/>
              </a:rPr>
              <a:t>Server: Apache 1.3.22 (Unix) mod_perl/1.26 PHP/4.1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ourier New"/>
              </a:rPr>
              <a:t>Content-Type: text/html Content-Length: 14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Luego línea en blanco y finalmente los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Dos métodos principale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50760" indent="-5119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50760" indent="-5119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s de envío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6920" y="1413000"/>
            <a:ext cx="8667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form method="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tod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gumentos de pasan por la línea de coman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 argumentos se pasan por la entrada estánd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an mayores cantidades de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ando G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5640" y="1413000"/>
            <a:ext cx="8739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.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localhost/../testX.php?campo1=valor1&amp;campo2=valor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$HTTP_GET_VARS[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$_GET[] // PHP 4.1 en adela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Formulario 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955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&lt;form name="form1" method="GET" action="testform1.php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&lt;p&gt;Nombre : &lt;input name="nombre" type="text" id="nombre"&gt;&lt;/p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&lt;p&gt;Apellido: &lt;input name="apellido" type="text" id="apellido"&gt;&lt;/p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&lt;p&gt;&lt;input type="submit" name="Submit" value="Enviar"&gt;&lt;/p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&lt;/for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1:48:36Z</dcterms:created>
  <dc:creator>Ricardo Villamarin</dc:creator>
  <dc:description/>
  <dc:language>en-US</dc:language>
  <cp:lastModifiedBy>Ricardo Villamarin</cp:lastModifiedBy>
  <dcterms:modified xsi:type="dcterms:W3CDTF">2003-10-24T18:40:24Z</dcterms:modified>
  <cp:revision>141</cp:revision>
  <dc:subject/>
  <dc:title>Slide 1</dc:title>
</cp:coreProperties>
</file>