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765-5A28-40F8-A34B-A07D586E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6A9-8A8C-4D19-9CF8-094633B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CEF-F841-4850-8222-248D183D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6FE-3185-4F82-854C-63C5A1B9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F6D-81AB-41DC-9891-3EB43F5E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FB7-1CB1-477D-B87A-C11D3291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A519-CCD5-44F6-A04D-BBD3F7A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4A7-B735-4FCD-9CDF-4421D09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009-915F-4C41-82B8-060A0AB6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28A3-23B8-4731-804D-C9C3A14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981-D1CE-45B2-AE11-224A3DA0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74E-AE2D-4662-9FA5-7F8EA294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6FC-58A3-4B77-B0C3-C1EF16F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3B91-1F94-4D98-A717-F0D5D9AA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B04B-964C-4A24-840C-9298782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B10-C6AB-4B5C-9065-D59FE4FA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C9A-9D64-4516-AE08-681C16E3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7C8-1CEB-4AF5-9AFD-E1AA11F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301-E448-4CB4-A94A-ED3C62B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5B1-318F-48A1-990A-7857CCD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07C-81E5-4707-9AFB-D0B1651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0FA-7731-480B-93F3-7006A19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C89-2A8B-4FFB-8815-BD79A50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0E6-BF32-4295-B777-28024FC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414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414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63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637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906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334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24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749-BA40-42DA-913C-24398ACA0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ADF2-7FB5-4266-A5B8-A4699D40D2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so 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7280" y="4581360"/>
            <a:ext cx="75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g. Ricardo Villamarín Salo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153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Implementar en PHP la sentencia UP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Actualizar el campo CompanyName al valor 'Serpost AQP'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80720"/>
            <a:ext cx="914400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$link = mysql_connect("localhost", "root", "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or die("Error al conectar: " . mysql_error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mysql_select_db("northw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$sqlINS = &lt;&lt;&lt;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INSERT INTO categories(CategoryName,Description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VALUES('Comida Andina', 'Quinua, Kiwicha, Maca, etc'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IN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$result = mysql_query($sqlIN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if (mysql_errno()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echo "El ID insertado fue ".mysql_insert_id($link)."&lt;br&gt;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echo "Fue(ron) afectada(s) ".mysql_affected_rows($link)." fila(s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echo mysql_err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993840" y="5157360"/>
            <a:ext cx="5149800" cy="13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333399"/>
                </a:solidFill>
                <a:latin typeface="Tahoma"/>
              </a:rPr>
              <a:t>Valores AutoIncrement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Naveg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html&gt;&lt;head&gt;&lt;title&gt;Shippers&lt;/title&gt;&lt;/hea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body&gt;&lt;?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$link = mysql_connect("localhost", "root", "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r die("Error al conectar: " . mysql_error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ysql_select_db("northw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$sqlbrw = "SELECT * FROM shippers ORDER BY CompanyName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$result = mysql_query($sqlbrw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f ($resu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{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table border="1" cellpadding="1"&gt;&lt;t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th&gt;&amp;nbsp;&lt;/th&gt;&lt;th&gt;&lt;?=mysql_field_name($result, 1)?&gt;&lt;/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Naveg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5640" y="1412640"/>
            <a:ext cx="8739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th&gt;&lt;?=mysql_field_name($result, 2)?&gt;&lt;/th&gt;&lt;/t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?php   while ( $row = mysql_fetch_array($result, MYSQL_ASSOC)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{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tr&gt;&lt;td&gt;&lt;?=$row["ShipperID"]?&gt;&lt;/t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td&gt;&lt;?=$row["CompanyName"]?&gt;&lt;/t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td&gt;&lt;?=$row["Phone"]?&gt;&lt;/td&gt;&lt;/t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?php  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&lt;?php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ysql_free_result($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?&gt;&lt;/body&gt;&lt;/htm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Naveg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55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ambiar</a:t>
            </a:r>
            <a:br>
              <a:rPr sz="3200"/>
            </a:br>
            <a:r>
              <a:rPr b="0" sz="3200" spc="-1" strike="noStrike">
                <a:solidFill>
                  <a:srgbClr val="000000"/>
                </a:solidFill>
                <a:latin typeface="Tahoma"/>
              </a:rPr>
              <a:t>&lt;tr&gt;&lt;td&gt;&lt;?=$row["ShipperID"]?&gt;&lt;/t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r&gt;&lt;td&gt;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&lt;a hre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updshp.php?ShipperID=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&lt;?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row["ShipperID"]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?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&lt;?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row["ShipperID"]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?&gt;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&lt;/a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t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7572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html&gt;&lt;head&gt;&lt;title&gt;Actualizar Shippers&lt;/title&gt;&lt;/head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form action="" method="GET" name="frmUpdShip"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p&gt;ID : &lt;/p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p&gt;Compa&amp;ntilde;&amp;iacute;a :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input name="CompanyName" type="text" size="40" maxlength="40"&gt;&lt;/p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p&gt;Tel&amp;eacute;fono: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input name="Phone" type="text" size="24" maxlength="24"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input name="enviado" type="hidden" value="1"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/p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p&gt;&lt;input type="submit" value="Actualizar"&gt;&lt;/p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Tahoma"/>
              </a:rPr>
              <a:t>&lt;/html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955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&lt;?ph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$ShipperID = @$HTTP_GET_VARS["ShipperID"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f ( is_null($ShipperID) || trim($ShipperID)==""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die ("Debe proporcionar el ID del Shipper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function Conn_Sel_DB(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$link = mysql_connect("localhost", "root", "") or die( mysql_error() 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mysql_select_db("northw") or die( mysql_error() 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return $lin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$enviado = @$HTTP_GET_VARS["enviado"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// Hemos sido llamados desde la pagina de Navegac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if (!$enviad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// Recuperamos el registro que necesitam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$sql = "SELECT * FROM Shippers WHERE ShipperID=".$Shipper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$link = Conn_Sel_DB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if ($result = mysql_query($sql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if ($row = mysql_fetch_array($result) 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$CompanyName = $row["CompanyName"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$Phone = $row["Phone"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else die( mysql_error() )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mysql_free_result($resul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$enviado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s-PE" sz="2200" spc="-1" strike="noStrike">
                <a:solidFill>
                  <a:srgbClr val="000000"/>
                </a:solidFill>
                <a:latin typeface="Tahoma"/>
              </a:rPr>
              <a:t>?&gt;</a:t>
            </a:r>
            <a:r>
              <a:rPr b="1" lang="es-PE" sz="2200" spc="-1" strike="noStrike">
                <a:solidFill>
                  <a:srgbClr val="000000"/>
                </a:solidFill>
                <a:latin typeface="Tahoma"/>
              </a:rPr>
              <a:t>&lt;html&gt;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160640"/>
            <a:ext cx="9144000" cy="56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p&gt;ID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?=$ShipperID?&gt;&lt;input name="ShipperID" type="hidden" value="&lt;?=$ShipperID?&gt;"&gt;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/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input name="CompanyName" type="text" size="40" maxlength="40"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value="&lt;?=$CompanyName?&gt;"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gt;  &lt;/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input name="Phone" type="text" size="24" maxlength="24"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value="&lt;?=$Phone?&gt;"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955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// El usuario ha pedido la actu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// Validar los datos y actualizar el regis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CompanyName = @$HTTP_GET_VARS["CompanyName"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Phone =  @$HTTP_GET_VARS["Phone"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if (trim($CompanyName == ""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msg = "Debe especificar el nombre de la compa&amp;ntilde;&amp;iacute;a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// Actualizamos el registro en la 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sql = "UPDATE Shippers SET CompanyName='%s', 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"Phone='%s' WHERE ShipperID=%d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y My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e I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955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sql = sprintf($sql, $CompanyName, $Phone, $ShipperID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link = Conn_Sel_DB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result = mysql_query($sq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if (mysql_errno() ==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msg = "Actualizacion Exitosa (".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mysql_affected_rows($link).")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msg = "Ocurrio un error &lt;br&gt;".mysql_error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ahoma"/>
              </a:rPr>
              <a:t>?&gt;&lt;html&gt;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updshp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240" y="1508040"/>
            <a:ext cx="8955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itle&gt;Actualizar Shippers&lt;/title&gt;&lt;/hea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?php if (isset($msg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ho "&lt;p&gt;$msg&lt;/p&gt;"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7572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Elaborar la Inser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Formulario en blan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l usuario llena los da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Validar los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Si NO son correctos, avisar al usuario (y mantener los datos llenados hasta el momen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Si son corr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Averiguar el ID de más valor e incrementarlo en 1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MAX(ShipperID) FROM ship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Hacer la inserción con los demás da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Informar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Limpiar el formul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Introduccion a My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75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otor Relacional de BD más usado con PHP y con el mayor so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Veloz pero limitado en muchos aspe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No tiene Procedimientos Almacen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Integridad Referencial sólo en ciertos tipos de arch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Conectarse a My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resource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connect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[string server [, string username [, string password ]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&lt;?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$link = mysql_connect("localhost", "mysql_user", "mysql_password"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r die("No se pudo conectar : " .mysql_error());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int ("Conexión Exitosa")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Recuperación de Result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bool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select_db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string database_name [, resource link_identifier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resource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query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string query [, resource link_identifier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fetch_array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resource result [, int result_type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bool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free_result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resource result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20680"/>
            <a:ext cx="9144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link = 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mysql_connect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"localhost", "root", "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or die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"Error al conectar: " . 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mysql_error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mysql_select_db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"northw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result = 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mysql_query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"SELECT * FROM Customers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if ($resu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while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( $row=m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ysql_fetch_array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$result, MYSQL_ASSOC)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printf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"%s -- %s&lt;br&gt;", $row["CompanyName"],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row["ContactName"] 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mysql_free_result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$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3333cc"/>
                </a:solidFill>
                <a:latin typeface="Tahoma"/>
              </a:rPr>
              <a:t>mysql_close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($link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rr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string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error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[resource link_identifier])</a:t>
            </a:r>
            <a:br>
              <a:rPr sz="3200"/>
            </a:b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Devuelve el texto del mensaje de error de la última operación MySQ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mysql_errno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( [resource link_identifier])</a:t>
            </a:r>
            <a:br>
              <a:rPr sz="3200"/>
            </a:b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Devuelve el número del mensaje de error de la última operación MySQL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Inserción de Val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link = mysql_connect("localhost", "root", "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or die("Error al conectar: " . mysql_error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mysql_select_db("northw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result = mysql_query("INSERT INTO shippers VALUES(1, 'SerPost', '(054) 215245')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if (mysql_errno() ==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echo "Fue(ron) afectada(s) ".mysql_affected_rows($lin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" fila(s)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echo mysql_error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liminación de Val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704080" cy="51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$link = mysql_connect("localhost", "root", ""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or die("Error al conectar: " . mysql_error(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mysql_select_db("northw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$result = mysql_query("DELETE FROM shippers WHERE ShipperID = 4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if (mysql_errno() ==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echo "Fue(ron) afectada(s) ".mysql_affected_rows($link)." fila(s)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echo mysql_error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mysql_close($link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48:36Z</dcterms:created>
  <dc:creator>Ricardo Villamarin</dc:creator>
  <dc:description/>
  <dc:language>en-US</dc:language>
  <cp:lastModifiedBy>Ricardo Villamarin</cp:lastModifiedBy>
  <dcterms:modified xsi:type="dcterms:W3CDTF">2003-10-31T17:15:08Z</dcterms:modified>
  <cp:revision>187</cp:revision>
  <dc:subject/>
  <dc:title>Slide 1</dc:title>
</cp:coreProperties>
</file>